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E23-7D9D-406D-A45C-54DC569C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731-BAB1-424D-9BB5-24204E67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C50-F50C-481E-B741-4E229ACC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DA9-8847-4610-BEFF-87D2FF5F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74E-416A-49A4-99D2-D19DA6C6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EB6-FE4D-4A38-82F3-18E9A4A4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1F2-4642-42E8-A6A5-7FEF4497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550-A0AA-471D-9463-4B19FB73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2B0-437A-4FE8-9657-D475C947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626-220E-4054-AAFF-B0E29A46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2B3-5742-44B0-A166-083FEBA2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CBD-5B83-4E18-8B6B-E583BFBE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C99F-FDD4-43C9-9C79-5DC9BE243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hyperlink" Target="mailto:guillermomendezapata@hotmail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esjuandelacierva.com/paginade/jorgelozano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73720" y="3141720"/>
            <a:ext cx="35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NTURA S.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resionismo abstr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eric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572000" y="2997360"/>
            <a:ext cx="1692360" cy="263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050920" y="2997360"/>
            <a:ext cx="2394000" cy="2660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7960" y="573408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illen de Ko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ujer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6920" y="3305160"/>
            <a:ext cx="10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incel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uy gru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573360"/>
            <a:ext cx="86364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0200" y="1989000"/>
            <a:ext cx="126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ferencia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onos verdo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ros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500360" y="2708280"/>
            <a:ext cx="50292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5680" y="3500280"/>
            <a:ext cx="143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tud, aus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perspe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866920" y="3789360"/>
            <a:ext cx="792360" cy="7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3680" y="2133720"/>
            <a:ext cx="2052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guras femen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formadas reduc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 un pequeño núm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trazos con exag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ojos, hombros y pe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724000" y="2781360"/>
            <a:ext cx="863640" cy="43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89160" y="1989000"/>
            <a:ext cx="181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as grotesc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e provocan inquie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347640" y="2492280"/>
            <a:ext cx="144360" cy="792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6960" y="4386240"/>
            <a:ext cx="103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gu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comple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4653000"/>
            <a:ext cx="936720" cy="7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46200" y="4365720"/>
            <a:ext cx="139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adros rez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iso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940000" y="4724280"/>
            <a:ext cx="107964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565360"/>
            <a:ext cx="103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lores mu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atur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2997360"/>
            <a:ext cx="107964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771640" y="2781360"/>
            <a:ext cx="3456000" cy="2560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01520" y="544500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anz K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ntur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96440" y="1413000"/>
            <a:ext cx="24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adros de gran form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blanco y negro (más adel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leó colores primari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205000"/>
            <a:ext cx="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64440" y="3500280"/>
            <a:ext cx="246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andas muy gru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pregnadas de 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e se entrecruzan, colision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 toda la superficie del lien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940000" y="3357360"/>
            <a:ext cx="576360" cy="50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987640" y="2781360"/>
            <a:ext cx="3095640" cy="2489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09920" y="537372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ackson Pol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umber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2560" y="1484280"/>
            <a:ext cx="139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tilización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ipping” (gote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012000" y="1989000"/>
            <a:ext cx="2016000" cy="18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4680" y="1413000"/>
            <a:ext cx="18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portancia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razo, de la ejecució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ediante mov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iolentos o atemper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2276640"/>
            <a:ext cx="1584360" cy="1439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1680" y="1484280"/>
            <a:ext cx="156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s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alquier refe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tural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05680" y="1413000"/>
            <a:ext cx="132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imin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profund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la perspe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292720" y="2133720"/>
            <a:ext cx="1511280" cy="1224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94280" y="1341360"/>
            <a:ext cx="2854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hay una jerarqu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ntro de la composició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ingún punto focal, el espectador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ja arrastrar por los giros y filigr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e se entrecruzan sin orden apar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se denomina “all-over”). Exal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l ca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2565360"/>
            <a:ext cx="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205000"/>
            <a:ext cx="1152720" cy="1079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283280" y="-3123360"/>
            <a:ext cx="505080" cy="8713800"/>
          </a:xfrm>
          <a:custGeom>
            <a:avLst/>
            <a:gdLst>
              <a:gd name="textAreaLeft" fmla="*/ 322920 w 505080"/>
              <a:gd name="textAreaRight" fmla="*/ 505440 w 505080"/>
              <a:gd name="textAreaTop" fmla="*/ 227160 h 8713800"/>
              <a:gd name="textAreaBottom" fmla="*/ 8486640 h 871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2040" y="476280"/>
            <a:ext cx="191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acterísticas gen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49840" y="2637000"/>
            <a:ext cx="141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ferencia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andes form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156000" y="3213000"/>
            <a:ext cx="1655640" cy="1079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5160" y="3284640"/>
            <a:ext cx="164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base está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espontaneidad,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 no previ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ceb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3933720"/>
            <a:ext cx="1512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5440" y="4313160"/>
            <a:ext cx="1490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import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proceso cre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 sí mism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base para el a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cept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692360" y="4581000"/>
            <a:ext cx="151128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26240" y="4365720"/>
            <a:ext cx="192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densidad de co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rigina una concepció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odo de bajorreli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651640" y="4724280"/>
            <a:ext cx="1008000" cy="14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9920" y="2565360"/>
            <a:ext cx="113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corda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ro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2997360"/>
            <a:ext cx="1511640" cy="79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124000" y="2492280"/>
            <a:ext cx="1217520" cy="227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564000" y="2565360"/>
            <a:ext cx="2152440" cy="2271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867280" y="2421000"/>
            <a:ext cx="1957680" cy="2487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37160" y="57913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ckson Pol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10880" y="4869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o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n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3440" y="4941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4880" y="50133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jos en el c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0960" y="1484280"/>
            <a:ext cx="197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ocasiones (años 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duce la paleta cro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 blancos y neg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787640" y="2205000"/>
            <a:ext cx="215640" cy="792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6960" y="3141720"/>
            <a:ext cx="1550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on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ructura: c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superpos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delgadas lí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violento traz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gruesos gol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3933720"/>
            <a:ext cx="720720" cy="43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0400" y="1484280"/>
            <a:ext cx="138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sibilidad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pandirse h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infin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093080" y="2133720"/>
            <a:ext cx="358560" cy="57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840" y="1628640"/>
            <a:ext cx="216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adros pintados en el sue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una vez rellenada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perficie, se recortab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 le ponía los lím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2565360"/>
            <a:ext cx="792000" cy="43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96600" cy="571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9280" y="907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Claseshisto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7120" y="6021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istoria del A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© 2006 Guillermo Méndez Zap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956720" y="6381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04720" y="242100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5680" y="3500280"/>
            <a:ext cx="36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8:14:17Z</dcterms:created>
  <dc:creator>YO</dc:creator>
  <dc:description/>
  <dc:language>en-US</dc:language>
  <cp:lastModifiedBy>JOSÉ ANTONIO</cp:lastModifiedBy>
  <dcterms:modified xsi:type="dcterms:W3CDTF">2007-05-18T09:35:02Z</dcterms:modified>
  <cp:revision>33</cp:revision>
  <dc:subject/>
  <dc:title>Diapositiva 1</dc:title>
</cp:coreProperties>
</file>