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B26-EC94-404D-899E-1582348D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129-82CB-4DB0-A14A-0C8637B6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9A8-9F05-4CB0-91B4-32083B7D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FCC-911D-48FE-BF3A-89424322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4C3-E899-47C7-BC13-E1D9D550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FDA-5324-409B-8241-ADB4322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12D-E997-474D-8776-93ABCFA2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44F-36CC-46AC-975E-50688837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A28-A7D5-4FB7-94D3-450DE83B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64B-DEC3-4D1E-A7B4-DDC3148E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3A7-BA51-4082-895F-F1648BA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2DC-B8F4-4596-A52D-C897AFB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F07C-9B61-462A-B078-BCA14AC7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8680" y="299736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nquec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n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2771640" y="2205000"/>
            <a:ext cx="2786040" cy="3632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63240" y="602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ma del arm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40400" y="3213000"/>
            <a:ext cx="135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ato de 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95640" y="3500280"/>
            <a:ext cx="143964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09160" y="620640"/>
            <a:ext cx="26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jer dispuesta de lado, en escorz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cabeza girada (en sus t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óricos indicaba que la cab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ebía estar dirigida en la mi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ción que el pe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34600" y="2637000"/>
            <a:ext cx="263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ia combin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s: (azul y roj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rillo en ropaje, ocres cla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 rostro con negro de perla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859280" y="3500280"/>
            <a:ext cx="1441440" cy="1224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57920" y="4149720"/>
            <a:ext cx="311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miño era animal doméstico q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empleaba para cazar roedore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mbién tiene un doble mensaje simbólic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 blancura símbolo de pureza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blema del duque Ludovico Sfor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la representada era amante del duq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500720" y="5084280"/>
            <a:ext cx="136656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27280" y="1844640"/>
            <a:ext cx="73080" cy="72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8280" y="4170240"/>
            <a:ext cx="195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acterísticas gener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fumato, compo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quilibrad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61520" y="1844640"/>
            <a:ext cx="28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eo de luces intermedi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trasparencias y reflejos matiz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642920" y="2060640"/>
            <a:ext cx="1297080" cy="115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2600" y="1341360"/>
            <a:ext cx="155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 resalta s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do en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7640" y="1916280"/>
            <a:ext cx="208944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716000" y="3429000"/>
            <a:ext cx="158436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3083040" y="1197000"/>
            <a:ext cx="2939760" cy="4435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704320" y="573408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ta Ana, la Virgen y el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1413000"/>
            <a:ext cx="4824360" cy="3816360"/>
          </a:xfrm>
          <a:prstGeom prst="triangle">
            <a:avLst>
              <a:gd name="adj" fmla="val 50000"/>
            </a:avLst>
          </a:prstGeom>
          <a:solidFill>
            <a:srgbClr val="ffff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40520" y="333360"/>
            <a:ext cx="300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acterísticas gener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osición piramidal, sfumato, armon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lores, paisajes rocoso que reflej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agreste de naturaleza, perspe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érea, diversidad de actitud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987640" y="3141720"/>
            <a:ext cx="93672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2060640"/>
            <a:ext cx="216000" cy="423720"/>
          </a:xfrm>
          <a:custGeom>
            <a:avLst/>
            <a:gdLst>
              <a:gd name="textAreaLeft" fmla="*/ 28800 w 216000"/>
              <a:gd name="textAreaRight" fmla="*/ 187200 w 216000"/>
              <a:gd name="textAreaTop" fmla="*/ 74160 h 423720"/>
              <a:gd name="textAreaBottom" fmla="*/ 307440 h 42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6800">
            <a:off x="4716000" y="2997360"/>
            <a:ext cx="393840" cy="166680"/>
          </a:xfrm>
          <a:prstGeom prst="rightArrow">
            <a:avLst>
              <a:gd name="adj1" fmla="val 50000"/>
              <a:gd name="adj2" fmla="val 59071"/>
            </a:avLst>
          </a:prstGeom>
          <a:solidFill>
            <a:srgbClr val="ff00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9954600">
            <a:off x="5579280" y="4005000"/>
            <a:ext cx="144360" cy="423720"/>
          </a:xfrm>
          <a:custGeom>
            <a:avLst/>
            <a:gdLst>
              <a:gd name="textAreaLeft" fmla="*/ 19080 w 144360"/>
              <a:gd name="textAreaRight" fmla="*/ 125280 w 144360"/>
              <a:gd name="textAreaTop" fmla="*/ 74160 h 423720"/>
              <a:gd name="textAreaBottom" fmla="*/ 307440 h 42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48360" y="3573360"/>
            <a:ext cx="144360" cy="424080"/>
          </a:xfrm>
          <a:custGeom>
            <a:avLst/>
            <a:gdLst>
              <a:gd name="textAreaLeft" fmla="*/ 19080 w 144360"/>
              <a:gd name="textAreaRight" fmla="*/ 125280 w 144360"/>
              <a:gd name="textAreaTop" fmla="*/ 74160 h 424080"/>
              <a:gd name="textAreaBottom" fmla="*/ 307440 h 4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rot="5374200">
            <a:off x="5172480" y="3258720"/>
            <a:ext cx="163440" cy="503280"/>
          </a:xfrm>
          <a:custGeom>
            <a:avLst/>
            <a:gdLst>
              <a:gd name="textAreaLeft" fmla="*/ 21600 w 163440"/>
              <a:gd name="textAreaRight" fmla="*/ 141840 w 16344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1280" y="3789360"/>
            <a:ext cx="720720" cy="576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492360" y="4076640"/>
            <a:ext cx="503280" cy="432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2880" y="1362240"/>
            <a:ext cx="160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tro de Santa 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de María jóv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96800" y="404640"/>
            <a:ext cx="213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beza en contrappost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ecto al pe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284360" y="981000"/>
            <a:ext cx="431640" cy="93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1700280"/>
            <a:ext cx="144000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9000" y="2205000"/>
            <a:ext cx="3164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ntro de estructura piramidal, establ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sutil juego de ejes en disti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ones: Santa Ana sentada hacia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recha gira la cabeza hacia la izquier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movimientohacia la izquierda continú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su hija que está sentada  enc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argando los brazos hacia su hijo, quié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 sus brazos prolonga el mov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cia la izquierda, pero con su cabeza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conduce hacia el rostro de su madre,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cordero cierra el ciclo dirigiéndose h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dere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219640" y="1341360"/>
            <a:ext cx="2232000" cy="100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9840" y="4962600"/>
            <a:ext cx="172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sto por de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rgados y huesu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68360" y="5084640"/>
            <a:ext cx="187200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80760" y="2421000"/>
            <a:ext cx="3131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arrolla modelo de ro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lcificado, de aire melancól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te el difuminado: ese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tenues transparencias brillante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readas disimula los rasgos básic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ndo la boca, nariz y cejas 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nas de transición, arropadas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vibrante atmósfera. Destaca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osición ambigua de comisur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ios entre sonrientes y nostálgicos, y 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uesos párp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858920" y="2852640"/>
            <a:ext cx="151308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44000" y="4292640"/>
            <a:ext cx="215640" cy="14904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07280" y="5445000"/>
            <a:ext cx="273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gún Freud, Leonardo buscaba recuperar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stro sonriente de su desaparecida m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27640" y="5516640"/>
            <a:ext cx="216000" cy="14904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2484360" y="2781360"/>
            <a:ext cx="3600360" cy="2614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921400" y="5589720"/>
            <a:ext cx="28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pia parcial de Rube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talla de Angh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9240" y="3500280"/>
            <a:ext cx="185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undo e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anatomí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mientos y escorz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8000" y="3860640"/>
            <a:ext cx="107964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8040" y="3860640"/>
            <a:ext cx="157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 destruido 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lo después de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5364000" y="3860280"/>
            <a:ext cx="115272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7080" y="692280"/>
            <a:ext cx="478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tinado a decorar una de las paredes de la Señoría de Florenc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ente a la batalla de Cascina que iba a ejecutar Miguel Á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1268280"/>
            <a:ext cx="0" cy="187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2916360" y="1197000"/>
            <a:ext cx="2963880" cy="430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23600" y="558972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ioc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00" y="2781360"/>
            <a:ext cx="2440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orizontes del paisaje a distintas al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más alto el izquierdo) confluy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Monna Lisa, influyendo en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cepción de su enigmática sonri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556000" y="2565000"/>
            <a:ext cx="93636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556000" y="2421000"/>
            <a:ext cx="3024000" cy="72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995640" y="836640"/>
            <a:ext cx="936720" cy="1224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41800" y="404640"/>
            <a:ext cx="176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no verdoso y falt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jas por mala restau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788000" y="3213000"/>
            <a:ext cx="1296720" cy="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87240" y="4797360"/>
            <a:ext cx="2349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ructura piramidal: Mujer sentada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corzo lateraly cabeza leve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irada que contrasta con br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silla casi paralelo al pl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l cuad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4284720" y="2637000"/>
            <a:ext cx="1727280" cy="57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2360" y="3573360"/>
            <a:ext cx="235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sto por los deta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escripción minuciosa de los encaj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81800" y="260280"/>
            <a:ext cx="100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Óleo so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 de ála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8000" y="1989000"/>
            <a:ext cx="251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mente el cuadro era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rato de una mujer ante un pret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columnas. Pero la tabla fue cortad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dando la base de dichas colum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ambos l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866920" y="2492280"/>
            <a:ext cx="505080" cy="865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-1800" y="1268280"/>
            <a:ext cx="230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pectiva aére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ta el aire interpuesto 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espectador y el fondo, por 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grosor de la atmósfera se cap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esas tonalidades azulada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diendo nitidez los contorno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dando las montañas redonde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con color más oscuro en las bas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79640" y="1700280"/>
            <a:ext cx="129708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8920" y="5157720"/>
            <a:ext cx="243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udio de manos  con dedos alarg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dispuestos con gran expres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06760" y="907920"/>
            <a:ext cx="293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roscuros suaves, mediante luces intermedi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trasparencias y reflejos mat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140360" y="1197000"/>
            <a:ext cx="2016000" cy="1368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95640" y="1341360"/>
            <a:ext cx="4392360" cy="4175280"/>
          </a:xfrm>
          <a:prstGeom prst="triangle">
            <a:avLst>
              <a:gd name="adj" fmla="val 50000"/>
            </a:avLst>
          </a:prstGeom>
          <a:solidFill>
            <a:srgbClr val="ffff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843280" y="1196640"/>
            <a:ext cx="0" cy="43196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2408760" y="2352960"/>
            <a:ext cx="52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66"/>
                </a:solidFill>
                <a:latin typeface="Arial"/>
              </a:rPr>
              <a:t>77 c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16360" y="1125360"/>
            <a:ext cx="29509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3080" y="836640"/>
            <a:ext cx="52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66"/>
                </a:solidFill>
                <a:latin typeface="Arial"/>
              </a:rPr>
              <a:t>53 c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1640" y="2924280"/>
            <a:ext cx="26204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fumato: Desarrolla modelo de ros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lcificado, de aire melancól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diante el difuminado: ese ju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tenues transparencias brillant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mbreadas disimula los rasgos básico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sentando la boca, nariz y cejas 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zonas de transición, arropadas p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vibrante atmósfera. Destaca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sposición ambigua de comisura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bios entre sonrientes y nostálgicos, y 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ruesos párpad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076360" y="5229360"/>
            <a:ext cx="107964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484360" y="3645000"/>
            <a:ext cx="158292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556000" y="5084280"/>
            <a:ext cx="1368360" cy="28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4920" y="4221000"/>
            <a:ext cx="2062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udio naturalist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pliegues del vestido. Al e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do con los conto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ás nítidos, parece que fue fr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una etapa ini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556000" y="4653000"/>
            <a:ext cx="93636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360" y="692280"/>
            <a:ext cx="503280" cy="57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77440" y="1557360"/>
            <a:ext cx="156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saje rocoso y agr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40000" y="2276640"/>
            <a:ext cx="10080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916360" y="1484280"/>
            <a:ext cx="2765160" cy="4016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423600" y="558972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ioc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34400" y="4724280"/>
            <a:ext cx="220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trato de Madonna Lisa, segu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posa de Francesco del Gioco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435280" y="5084640"/>
            <a:ext cx="865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93840" y="3573360"/>
            <a:ext cx="2948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ce ser que aunque original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se un retrato de encargo, al no que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renderse de él Leonardo, se ha asoci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que en esta pequeña obra quiso represen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 ideal de bel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572000" y="3716280"/>
            <a:ext cx="1512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885080" y="4292640"/>
            <a:ext cx="216000" cy="14904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5445000"/>
            <a:ext cx="273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gún Freud, Leonardo buscaba recuperar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stro sonriente de su desaparecida m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27640" y="5516640"/>
            <a:ext cx="216000" cy="14904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1080" y="4653000"/>
            <a:ext cx="192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o representar a la mujer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tud distendida y relaj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195640" y="4797360"/>
            <a:ext cx="143964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000" y="2205000"/>
            <a:ext cx="24271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saje brumoso, con rocas y gru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n la naturaleza salvaje, 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erto toque de fantasía en el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arecen algunos elementos human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camino serpenteante a la derech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 puente a la izquierda (fus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ndo terrenal y mundo espiri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84360" y="3141720"/>
            <a:ext cx="719280" cy="503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3141720"/>
            <a:ext cx="259236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2050920" cy="327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48320" y="55897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multidiscipl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1693800" cy="260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300720" y="260280"/>
            <a:ext cx="1828800" cy="275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443640" y="3213000"/>
            <a:ext cx="1747800" cy="252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3564000" y="260280"/>
            <a:ext cx="2103480" cy="2828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96320" y="566100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íritu cient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132000" y="3284640"/>
            <a:ext cx="2881440" cy="209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258920" y="189000"/>
            <a:ext cx="18064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643280" y="2060640"/>
            <a:ext cx="2733840" cy="336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58920" y="2205000"/>
            <a:ext cx="2498760" cy="3009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 flipV="1">
            <a:off x="3780000" y="3860280"/>
            <a:ext cx="1079280" cy="28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6520" y="544500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roch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utismo de Cr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2320" y="5373720"/>
            <a:ext cx="32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 de aprend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ngel y pai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213000"/>
            <a:ext cx="936720" cy="1224000"/>
          </a:xfrm>
          <a:prstGeom prst="ellipse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4760" y="1268280"/>
            <a:ext cx="143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aviza conto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recedente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fumat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3860640"/>
            <a:ext cx="1008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600" y="1773360"/>
            <a:ext cx="14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s dilui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z atmosfé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276640"/>
            <a:ext cx="1800360" cy="72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8200" y="4365720"/>
            <a:ext cx="100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egu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pa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1916280"/>
            <a:ext cx="1584360" cy="144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1844640"/>
            <a:ext cx="792000" cy="1440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64840" y="692280"/>
            <a:ext cx="382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ente a paisajes típicos del Quatrocento, con col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árboles distribuidos simétricamente, él recrea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pacio de gran profundidad, con roquedosy deta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aturalistas, envueltos en atmósfera neblin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48000" y="1557360"/>
            <a:ext cx="2087640" cy="19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" y="3068640"/>
            <a:ext cx="132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eladas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s y som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ap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nte 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lo envu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1280" y="3500280"/>
            <a:ext cx="92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leo s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6948000" y="3715920"/>
            <a:ext cx="100836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724280"/>
            <a:ext cx="129528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0200" y="62064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rte contr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6920" y="1268280"/>
            <a:ext cx="144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rmas de per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ítidos y rot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Verroc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2880000" y="-567360"/>
            <a:ext cx="287280" cy="338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908000" y="3287880"/>
            <a:ext cx="4751640" cy="2145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35960" y="558972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213000"/>
            <a:ext cx="49320" cy="2265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3284640"/>
            <a:ext cx="95400" cy="2116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3284640"/>
            <a:ext cx="0" cy="2089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3213000"/>
            <a:ext cx="0" cy="2232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834920" y="3260880"/>
            <a:ext cx="1377720" cy="2090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284640"/>
            <a:ext cx="900000" cy="2136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642920" y="3284640"/>
            <a:ext cx="806760" cy="208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3284640"/>
            <a:ext cx="1044360" cy="2092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2240" y="260280"/>
            <a:ext cx="17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ción mu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diada y equilib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51640" y="2781360"/>
            <a:ext cx="1008000" cy="503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8280" y="511020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Óleo so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4040" y="907920"/>
            <a:ext cx="168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ón del cuadr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co franj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692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4120" y="1654200"/>
            <a:ext cx="1995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s rectángulos inscri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figura del ángel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 estructura pirami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imetría, estabilidad, equilibr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con fondo espacial delimi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 árboles oscuros a contralu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79920" y="1654200"/>
            <a:ext cx="1995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s rectángulos inscri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figura de la Virgen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 estructura pirami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imetría, estabilidad, equilibr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con fondo arquitectónico b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ruido en perspec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03720" y="1582560"/>
            <a:ext cx="1856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tángulo central perm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arrollar en profund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añas (paisaje neblinoso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ulado que anuncia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pectiva aérea y el cie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minoso que contrasta 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es oscuros de arbol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para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030200" y="-1861920"/>
            <a:ext cx="505080" cy="6912000"/>
          </a:xfrm>
          <a:custGeom>
            <a:avLst/>
            <a:gdLst>
              <a:gd name="textAreaLeft" fmla="*/ 322920 w 505080"/>
              <a:gd name="textAreaRight" fmla="*/ 505440 w 505080"/>
              <a:gd name="textAreaTop" fmla="*/ 180000 h 6912000"/>
              <a:gd name="textAreaBottom" fmla="*/ 6732000 h 691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58920" y="5373720"/>
            <a:ext cx="72072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9800" y="4797360"/>
            <a:ext cx="153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ros 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llares almohadill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zan superfic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a que enmarca a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r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11640" y="3933360"/>
            <a:ext cx="936360" cy="1366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4175280"/>
            <a:ext cx="168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ción cuidado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colore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complement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ojo-verde; azul-rojo, et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581360"/>
            <a:ext cx="936720" cy="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72480" y="3933720"/>
            <a:ext cx="1271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udio 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stos y actitu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9160" y="3382920"/>
            <a:ext cx="1550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udio pormenorizado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uralista y  “científico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plantas. Gr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4005360"/>
            <a:ext cx="2376720" cy="93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284720" y="3141720"/>
            <a:ext cx="71280" cy="358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2924280"/>
            <a:ext cx="79092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2852640"/>
            <a:ext cx="2044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quilibrio brazo dere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delantado de ángel 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zquierdo retraíd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irgen y derecho adelan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Virgen con izquiedo del á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4880" y="4365720"/>
            <a:ext cx="12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osición vari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manos y de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885080" y="3715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56720" y="4365720"/>
            <a:ext cx="1425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35640" y="3213000"/>
            <a:ext cx="144144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411280" y="2565360"/>
            <a:ext cx="1625760" cy="266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80680" y="587700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rgen de la 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4572000" y="2421000"/>
            <a:ext cx="1792440" cy="2854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72320" y="530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seo del Lo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Par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7520" y="530064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n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3284640"/>
            <a:ext cx="2233800" cy="1728720"/>
          </a:xfrm>
          <a:prstGeom prst="triangle">
            <a:avLst>
              <a:gd name="adj" fmla="val 50000"/>
            </a:avLst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141720"/>
            <a:ext cx="2448000" cy="1871640"/>
          </a:xfrm>
          <a:prstGeom prst="triangle">
            <a:avLst>
              <a:gd name="adj" fmla="val 50000"/>
            </a:avLst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89120" y="33336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3080" y="4724280"/>
            <a:ext cx="1721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uego de actit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y gestos: manos y mir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n líneas de fuer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y tensión en zig-z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360" y="3429000"/>
            <a:ext cx="1902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udio anatóm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personajes y preocup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 ropajes sobre los mis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liegu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0" y="4149720"/>
            <a:ext cx="19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ción armó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colores (primarios, binario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mentario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640" y="4869000"/>
            <a:ext cx="1669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ciosismo naturalis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res y plantas adqu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agonismo propi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 interrelaci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763640" y="4508640"/>
            <a:ext cx="100800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92360" y="4365360"/>
            <a:ext cx="1224000" cy="21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78936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796000" y="4292640"/>
            <a:ext cx="792000" cy="50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637000"/>
            <a:ext cx="93636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981000"/>
            <a:ext cx="272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pleo del Sfumato, el difuminado de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tornos, que suaviza las formas. Medi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laroscuro envuelve las masas de sut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mbras. Esa zona intermedia repres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vibrante espacio atmosférico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vuelve los volúme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360" y="1916280"/>
            <a:ext cx="718920" cy="1657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3080" y="1125360"/>
            <a:ext cx="220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ación de los ele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os junto a los bellos, para resal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ás la bel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508360" y="1628640"/>
            <a:ext cx="863640" cy="1440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7280" y="2349360"/>
            <a:ext cx="22683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tenciación de la profund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nte el empleo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pectiva aérea: represen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s zonas más lejanas con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ornos menos nítidos y envue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 tonalidades azuladas, para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 capte el aire interpue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175280" y="-2583000"/>
            <a:ext cx="504720" cy="691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180000 h 6912000"/>
              <a:gd name="textAreaBottom" fmla="*/ 6732000 h 691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932000" y="3357720"/>
            <a:ext cx="180036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0" y="2060640"/>
            <a:ext cx="234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siciones muy estudi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equilibradas: Composición pirami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quilibrio, simetría, for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rradas, etc.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9800" y="3573360"/>
            <a:ext cx="17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trapposto de cuerp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beza en dirección dist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cuer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651280" y="3789360"/>
            <a:ext cx="136836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80" y="2852640"/>
            <a:ext cx="224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sajes rocosos y brumo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o reflejo de naturaleza indómit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zcla de realidad y fantas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357720"/>
            <a:ext cx="720720" cy="21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05080" y="4149720"/>
            <a:ext cx="156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undancia de símbo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mensajes oc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227280" y="4221000"/>
            <a:ext cx="576360" cy="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1625760" cy="2664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80680" y="587700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rgen de la 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2268360" y="2349360"/>
            <a:ext cx="1792440" cy="2854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72320" y="530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seo del Lo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rimera ver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4320" y="530064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eo de Lon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gunda ver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79640" y="4508640"/>
            <a:ext cx="79200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50920" y="4365360"/>
            <a:ext cx="86544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3500280"/>
            <a:ext cx="863640" cy="28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012000" y="4941360"/>
            <a:ext cx="100800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5640" y="2637000"/>
            <a:ext cx="93636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700360" y="1844640"/>
            <a:ext cx="719280" cy="1657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076360" y="2133720"/>
            <a:ext cx="863640" cy="143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6560" y="4653000"/>
            <a:ext cx="91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tada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1320" y="522936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tada en lien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sladado a mad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23800" y="189000"/>
            <a:ext cx="416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cuadro iba a ir insertado en un ornamentado retabl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dera de San Francesco Grande en Milán, por lo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bía plantear una ejecución que atrajera la atención y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dase inadvert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843280" y="3789360"/>
            <a:ext cx="43344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4292640"/>
            <a:ext cx="36036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203640" y="4149720"/>
            <a:ext cx="28728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32640" y="1341360"/>
            <a:ext cx="295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ca la escena en una gruta con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juega con los efectos de clarosc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1341360"/>
            <a:ext cx="326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fondo aparece un paisaje brum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roquedo que la distancia redonde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uelto en tonalidades azuladas y que a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tos de fugas muy lej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174920" y="-2222280"/>
            <a:ext cx="505080" cy="6912000"/>
          </a:xfrm>
          <a:custGeom>
            <a:avLst/>
            <a:gdLst>
              <a:gd name="textAreaLeft" fmla="*/ 322920 w 505080"/>
              <a:gd name="textAreaRight" fmla="*/ 505440 w 505080"/>
              <a:gd name="textAreaTop" fmla="*/ 180000 h 6912000"/>
              <a:gd name="textAreaBottom" fmla="*/ 6732000 h 691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6120" y="2781360"/>
            <a:ext cx="232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omposición tr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quilátera cerrada formad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cuatro figuras presenta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 interior un sutil jueg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íneas de fuerza (brazos) y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nsión (miradas) en zig-z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651640" y="3429000"/>
            <a:ext cx="1008000" cy="50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4600" y="3068640"/>
            <a:ext cx="184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orzo pronunc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a mano de la Vir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5760" y="4149720"/>
            <a:ext cx="223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Virgen con su br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ido cobija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 manto a San Juan (m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estre) mientras Jesú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991240" y="5300640"/>
            <a:ext cx="27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Última C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ta maría delle Gra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2200" y="476280"/>
            <a:ext cx="3539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sición muy geométric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ada en divisiones verticales, horizon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diagonales. Crean cuadrados (cuadrado central aco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 dos medios cuadrados, cuadrado más pequeño in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 cuadrado central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5832360" cy="3208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92360" y="4076640"/>
            <a:ext cx="115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92360" y="2923920"/>
            <a:ext cx="0" cy="115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572000" y="2923920"/>
            <a:ext cx="0" cy="115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58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2205000"/>
            <a:ext cx="0" cy="23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2205000"/>
            <a:ext cx="71280" cy="23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4941720"/>
            <a:ext cx="57610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484000" y="1700280"/>
            <a:ext cx="3311640" cy="32400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357720"/>
            <a:ext cx="5905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128000" y="115920"/>
            <a:ext cx="2016000" cy="1457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9880" y="90360"/>
            <a:ext cx="1515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unetos con escu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armas de los Sfor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877080" y="333360"/>
            <a:ext cx="57456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5440" y="1773360"/>
            <a:ext cx="1976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eo de técnica experi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óleo-temple provocó su ráp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ioro. Al menos se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auraciones y perio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abando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8243640" y="1196640"/>
            <a:ext cx="21564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7440" y="3068640"/>
            <a:ext cx="2013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pectiva lin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incide punto de fu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punto de vista especta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ecto ilusionista (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refectorio de los monj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 pintar en el muro del fondo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sala parecía agrandarse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 hacía creer que participab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la escen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6876720" y="2276280"/>
            <a:ext cx="647640" cy="64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148000" y="1916280"/>
            <a:ext cx="2087640" cy="86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2060640"/>
            <a:ext cx="1584360" cy="718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1773360"/>
            <a:ext cx="3384360" cy="32400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1773360"/>
            <a:ext cx="0" cy="31683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2000" y="5013360"/>
            <a:ext cx="56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66"/>
                </a:solidFill>
                <a:latin typeface="Arial"/>
              </a:rPr>
              <a:t>8´80 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73720" y="3383280"/>
            <a:ext cx="56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66"/>
                </a:solidFill>
                <a:latin typeface="Arial"/>
              </a:rPr>
              <a:t>4´60 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4581360"/>
            <a:ext cx="576108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4076640"/>
            <a:ext cx="576108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3429000"/>
            <a:ext cx="583236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852640"/>
            <a:ext cx="576108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2276640"/>
            <a:ext cx="583236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284360" y="1341360"/>
            <a:ext cx="431640" cy="57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066920" y="1773360"/>
            <a:ext cx="1152360" cy="15843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066920" y="1773360"/>
            <a:ext cx="649080" cy="15843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066920" y="1773360"/>
            <a:ext cx="73080" cy="15843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0" y="1773360"/>
            <a:ext cx="792360" cy="15843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907920"/>
            <a:ext cx="1550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ús en el c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marcado por vent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al de t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rin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1557360"/>
            <a:ext cx="129708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0" y="2565360"/>
            <a:ext cx="126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co de lu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ntal y u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ndario tras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2781360"/>
            <a:ext cx="1368360" cy="43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2195640" y="2565360"/>
            <a:ext cx="4895640" cy="2692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rot="15253800">
            <a:off x="4896000" y="3320280"/>
            <a:ext cx="648000" cy="1008000"/>
          </a:xfrm>
          <a:prstGeom prst="ellipse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5253800">
            <a:off x="6212520" y="3300840"/>
            <a:ext cx="679680" cy="1224000"/>
          </a:xfrm>
          <a:prstGeom prst="ellipse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5253800">
            <a:off x="3311640" y="3535560"/>
            <a:ext cx="576360" cy="936720"/>
          </a:xfrm>
          <a:prstGeom prst="ellipse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5253800">
            <a:off x="2230920" y="3319920"/>
            <a:ext cx="648000" cy="1008360"/>
          </a:xfrm>
          <a:prstGeom prst="ellipse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97520" y="11592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ción de persona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0920" y="620640"/>
            <a:ext cx="52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nte al sistema tradicional de colocar a Judas al otro lado de la me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í aparecen los doce apóstoles tras la mesa agrupados de tres en t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 a cada lado con Jesús en medio respetando la si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62520" y="5373720"/>
            <a:ext cx="27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Última C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ta maría delle Gra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40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200" y="4340160"/>
            <a:ext cx="155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 cuidado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eza mu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da s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m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692360" y="4581000"/>
            <a:ext cx="107928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3720" y="1557360"/>
            <a:ext cx="263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esús en el centr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 actitud relajada contr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 la gestualidad de los discípu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2276640"/>
            <a:ext cx="0" cy="1368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3716280"/>
            <a:ext cx="1297080" cy="792360"/>
          </a:xfrm>
          <a:prstGeom prst="triangle">
            <a:avLst>
              <a:gd name="adj" fmla="val 50000"/>
            </a:avLst>
          </a:prstGeom>
          <a:solidFill>
            <a:srgbClr val="ffff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080" y="1484280"/>
            <a:ext cx="276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te gestos( sobre 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osición de manos y expres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tros) presenta una gran diver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32720" y="1628640"/>
            <a:ext cx="346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terísticas generales: armon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s, estudio de pliegues, perspectiva aére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uminado que redondea contorno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4221000"/>
            <a:ext cx="1798920" cy="28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4553280" y="-2888280"/>
            <a:ext cx="504720" cy="8675640"/>
          </a:xfrm>
          <a:custGeom>
            <a:avLst/>
            <a:gdLst>
              <a:gd name="textAreaLeft" fmla="*/ 322560 w 504720"/>
              <a:gd name="textAreaRight" fmla="*/ 505080 w 504720"/>
              <a:gd name="textAreaTop" fmla="*/ 226080 h 8675640"/>
              <a:gd name="textAreaBottom" fmla="*/ 8449560 h 867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5400" y="3141720"/>
            <a:ext cx="215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as realiza un mov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apartarse mientras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erra con la mano a la bol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monedas y vuelca sal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ímbolo mala suer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62840" y="2997360"/>
            <a:ext cx="2107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nardo ha elegido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o diferente a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ción del pan y el v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fiere repres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instante dramátic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anuncia que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s le va a trai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651280" y="3357720"/>
            <a:ext cx="158436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8:14:17Z</dcterms:created>
  <dc:creator>YO</dc:creator>
  <dc:description/>
  <dc:language>en-US</dc:language>
  <cp:lastModifiedBy>Guillermo</cp:lastModifiedBy>
  <dcterms:modified xsi:type="dcterms:W3CDTF">2008-03-21T08:45:52Z</dcterms:modified>
  <cp:revision>118</cp:revision>
  <dc:subject/>
  <dc:title>Diapositiva 1</dc:title>
</cp:coreProperties>
</file>