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F1B4-6166-4DBA-8596-6D4D5749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404-73B8-46BF-BC3F-FD26C96B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AC18-D249-412E-85C3-980E0F2D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8AD7-9544-479A-8590-C39405E2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74E-A91E-47E2-BB05-DE528956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211A-A09A-4192-9B83-7A53BE06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2FF-39AD-46F4-80CC-DDE7C337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96DE-9ABC-4AF3-8083-45E2E604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0D14-460F-4BEB-A262-B67B1496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577-2B03-4775-BC07-74D8B46D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176B-2B4D-43D5-87DA-E8E1C6AC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B50B-8593-47B5-8595-373FA67A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9181-85D6-46CB-972E-089B8D4E4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85240" y="2565360"/>
            <a:ext cx="21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GLO 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omantic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2771640" y="2852640"/>
            <a:ext cx="3384720" cy="2656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713680" y="5516640"/>
            <a:ext cx="306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par David Fried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ja contemplando la l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3200" y="3954600"/>
            <a:ext cx="144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sonaje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pal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papel secundar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86560" y="1916280"/>
            <a:ext cx="113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tardeceres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manece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932360" y="2421000"/>
            <a:ext cx="719280" cy="1008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908000" y="4220640"/>
            <a:ext cx="1368720" cy="7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440" y="2801880"/>
            <a:ext cx="145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guras recort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24000" y="3213000"/>
            <a:ext cx="1224000" cy="792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77840" y="3357720"/>
            <a:ext cx="110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nsa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at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11640" y="3573360"/>
            <a:ext cx="1152360" cy="287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1865160"/>
            <a:ext cx="16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cepción panteí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la naturale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19640" y="2421000"/>
            <a:ext cx="28872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98960" y="1916280"/>
            <a:ext cx="165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ntido mí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l paisaje (preten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flejar estad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ánimo del individu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940000" y="2492280"/>
            <a:ext cx="792360" cy="649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991960" y="551664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par David Fried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adía en el roble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2124000" y="2852640"/>
            <a:ext cx="4105440" cy="26272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584040" y="3573360"/>
            <a:ext cx="138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isaje desolad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 ru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0640" y="3521160"/>
            <a:ext cx="184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ielo ocupa buena pa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l cua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35280" y="3860640"/>
            <a:ext cx="720720" cy="7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65480" y="1989000"/>
            <a:ext cx="12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uz crepu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40360" y="2276640"/>
            <a:ext cx="144360" cy="1728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-3240" y="4724280"/>
            <a:ext cx="183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sonajes minimiz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cortejo fúne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92360" y="5084640"/>
            <a:ext cx="1942920" cy="7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500720" y="3860640"/>
            <a:ext cx="2303280" cy="57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1120" y="1916280"/>
            <a:ext cx="188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usto por 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órdico (nacionalismo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uinas góticas, atmós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r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32000" y="285264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bujo mu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fil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59280" y="3213000"/>
            <a:ext cx="1873440" cy="936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24000" y="2637000"/>
            <a:ext cx="1871640" cy="165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26600" y="1773360"/>
            <a:ext cx="18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mposición equilibrad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incipio de simet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148360" y="1989000"/>
            <a:ext cx="1441440" cy="1440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751120" y="5516640"/>
            <a:ext cx="29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par David Fried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nje contemplando el 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2627280" y="3284640"/>
            <a:ext cx="3241800" cy="20257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904320" y="474660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gura empequeñec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84360" y="5013360"/>
            <a:ext cx="1150920" cy="71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05520" y="3141720"/>
            <a:ext cx="253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érdida de perspec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profundidad se diluye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s difuminadas manchas d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6800" y="3665520"/>
            <a:ext cx="158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yor parte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uadro ocupado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cie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149720"/>
            <a:ext cx="360360" cy="71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84360" y="3284640"/>
            <a:ext cx="71640" cy="1368360"/>
          </a:xfrm>
          <a:custGeom>
            <a:avLst/>
            <a:gdLst>
              <a:gd name="textAreaLeft" fmla="*/ 20880 w 71640"/>
              <a:gd name="textAreaRight" fmla="*/ 72000 w 7164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435640" y="3789360"/>
            <a:ext cx="1224000" cy="647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50960" y="4653000"/>
            <a:ext cx="277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uerte contraste entre colores frío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ielo y los tonos cálidos de la pla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5651640" y="4436640"/>
            <a:ext cx="504720" cy="36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363640" y="4797360"/>
            <a:ext cx="792360" cy="503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38240" y="4005360"/>
            <a:ext cx="190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onalidad oscura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r acentúa sens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desamparo y sol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858920" y="4221000"/>
            <a:ext cx="1513080" cy="72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920320" y="558972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par David Fried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 de hi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2484360" y="2924280"/>
            <a:ext cx="3457800" cy="25938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591240" y="4076640"/>
            <a:ext cx="104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écnica mu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al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651640" y="4365720"/>
            <a:ext cx="1008000" cy="358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20160" y="308916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at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363640" y="3357720"/>
            <a:ext cx="1079640" cy="79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98200" y="4149720"/>
            <a:ext cx="99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mens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paisa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8000" y="4508640"/>
            <a:ext cx="79236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3640" y="3089160"/>
            <a:ext cx="135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flej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ado de áni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0920" y="3573360"/>
            <a:ext cx="936720" cy="21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627280" y="3068640"/>
            <a:ext cx="3672000" cy="2533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91600" y="5734080"/>
            <a:ext cx="26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éodore Géric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balsa de “la Medus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627280" y="3141360"/>
            <a:ext cx="1224000" cy="1942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4360" y="3141720"/>
            <a:ext cx="1079280" cy="1079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356000" y="3212640"/>
            <a:ext cx="936720" cy="1295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92720" y="3213000"/>
            <a:ext cx="863640" cy="144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276360" y="3573360"/>
            <a:ext cx="431640" cy="2872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003640" y="3645000"/>
            <a:ext cx="505080" cy="50472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2040" y="1557360"/>
            <a:ext cx="216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s pirámide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mientos diverg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 hacia la sal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ra arrastrada a la per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0800" y="4365720"/>
            <a:ext cx="219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e  abandonado refle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áfora de la decad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Fra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156360" y="4653000"/>
            <a:ext cx="792000" cy="21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040" y="4797360"/>
            <a:ext cx="1686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alism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natomías (estudi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dáveres) pero 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der su conce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lás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95640" y="5013360"/>
            <a:ext cx="7920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2400" y="2205000"/>
            <a:ext cx="134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cia en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janía del bar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 los salvar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651280" y="2852640"/>
            <a:ext cx="433080" cy="115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708280"/>
            <a:ext cx="287280" cy="649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924000" y="2708280"/>
            <a:ext cx="647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557360"/>
            <a:ext cx="232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smo de situación 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uce en paisaje tormento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brillos en la dista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bolizan la esper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2421000"/>
            <a:ext cx="1873440" cy="1295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040" y="3429000"/>
            <a:ext cx="1592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inmensa 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cura acentú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tensión dram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7360" y="2997360"/>
            <a:ext cx="2823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ación de mov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de la base (muertos o moribund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ta la cúspide donde los náufra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otan sus últimas fuerzas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er señ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363640" y="3789360"/>
            <a:ext cx="1079640" cy="43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400" y="4221000"/>
            <a:ext cx="185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posición en zig-zag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corzos profundo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agonal reces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720" y="2708280"/>
            <a:ext cx="241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empleo de betún para obt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os más oscuro estrope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nas del cua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62520" y="5249880"/>
            <a:ext cx="145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as recort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luz viol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5003280" y="4581360"/>
            <a:ext cx="1729080" cy="719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3284640"/>
            <a:ext cx="1871640" cy="72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3933720"/>
            <a:ext cx="720720" cy="21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18640" y="1341360"/>
            <a:ext cx="255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presenta tema contemporán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forma épica para resal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desesperación de la human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r su abando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940360" y="2133720"/>
            <a:ext cx="1944720" cy="1366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4581360"/>
            <a:ext cx="10080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132000" y="2492280"/>
            <a:ext cx="2432160" cy="3137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05800" y="5734080"/>
            <a:ext cx="21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ugéne Delacro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tanza de Quí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21160" y="3141720"/>
            <a:ext cx="210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mposición en diagonal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38920" y="301788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mas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ierras exó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rebelión de grie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tra turc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1640" y="3500280"/>
            <a:ext cx="720720" cy="144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4040" y="407664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flejo de es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ánimo. Exal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la pa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4760" y="4149720"/>
            <a:ext cx="11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ico jueg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larosc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148000" y="4292640"/>
            <a:ext cx="863640" cy="21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700360" y="4292640"/>
            <a:ext cx="792000" cy="21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364000" y="3284640"/>
            <a:ext cx="936720" cy="288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8000" y="4149720"/>
            <a:ext cx="792360" cy="7920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356000" y="3500280"/>
            <a:ext cx="936720" cy="14414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06720" y="1557360"/>
            <a:ext cx="2590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úsqued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cuadre oblicu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simetría: el soldado tur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 las dos prision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queda casi fuera. El centro, huec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mite contemplar paisaje h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una gran profundid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643280" y="2852640"/>
            <a:ext cx="1152720" cy="792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0240" y="4724280"/>
            <a:ext cx="221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uertes contr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color yuxtaponie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mplementarios o aplic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laras disona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148360" y="5229360"/>
            <a:ext cx="1008000" cy="71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12280" y="126828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traste de postu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námicas con actit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ren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11640" y="1989000"/>
            <a:ext cx="792000" cy="129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708000" y="1916280"/>
            <a:ext cx="360360" cy="2017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5680" y="2421000"/>
            <a:ext cx="145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ínea de horizo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uy elev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4000" y="2781360"/>
            <a:ext cx="1584360" cy="718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0600" y="1268280"/>
            <a:ext cx="2163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tmósfera refleja es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ánimo. Yuxtaponía v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onos de un mismo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ando mayor intens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133720"/>
            <a:ext cx="649080" cy="93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85120" y="3500280"/>
            <a:ext cx="150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ezcla de cruel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sensu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435280" y="3860640"/>
            <a:ext cx="1297080" cy="144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4920" y="1268280"/>
            <a:ext cx="108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bra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o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men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364000" y="1916280"/>
            <a:ext cx="216000" cy="43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31320" y="20606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´54 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4319280" y="1160280"/>
            <a:ext cx="71280" cy="2592360"/>
          </a:xfrm>
          <a:custGeom>
            <a:avLst/>
            <a:gdLst>
              <a:gd name="textAreaLeft" fmla="*/ 20880 w 71280"/>
              <a:gd name="textAreaRight" fmla="*/ 71640 w 71280"/>
              <a:gd name="textAreaTop" fmla="*/ 108000 h 2592360"/>
              <a:gd name="textAreaBottom" fmla="*/ 248436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5508720" y="2565000"/>
            <a:ext cx="217440" cy="3095640"/>
          </a:xfrm>
          <a:custGeom>
            <a:avLst/>
            <a:gdLst>
              <a:gd name="textAreaLeft" fmla="*/ 63720 w 217440"/>
              <a:gd name="textAreaRight" fmla="*/ 217800 w 217440"/>
              <a:gd name="textAreaTop" fmla="*/ 128880 h 3095640"/>
              <a:gd name="textAreaBottom" fmla="*/ 296676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22040" y="3594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´17 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27080" y="4869000"/>
            <a:ext cx="161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cuadre rec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de persona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mo parte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un grupo may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484360" y="4869000"/>
            <a:ext cx="719280" cy="504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947320" y="5734080"/>
            <a:ext cx="26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ugéne Delacro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erte de Sardanáp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843280" y="2955960"/>
            <a:ext cx="3384360" cy="2690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285960" y="4508640"/>
            <a:ext cx="201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uerte dinam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figuras en máxima ten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contraste con act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lajada del r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796000" y="4653000"/>
            <a:ext cx="72072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58960" y="3068640"/>
            <a:ext cx="2892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nchas d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 pequeñas y libres  pinceladas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fumatos logra difuminar loscontor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otando a la composición de may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namis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508720" y="3500280"/>
            <a:ext cx="79200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3357720"/>
            <a:ext cx="2232000" cy="1655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95520" y="1844640"/>
            <a:ext cx="218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agonal dominante des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fondo hasta el espect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que se ve confundido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jes transversales al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851280" y="2637000"/>
            <a:ext cx="936720" cy="1152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3360" y="3089160"/>
            <a:ext cx="11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unto de v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ev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3429000"/>
            <a:ext cx="1150920" cy="287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69480" y="4076640"/>
            <a:ext cx="114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nsualid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ere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795640" y="4292640"/>
            <a:ext cx="647640" cy="21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4960" y="3860640"/>
            <a:ext cx="216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tr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romáticos inten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cuerpos nacarados mujer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la roj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627280" y="4076280"/>
            <a:ext cx="1008000" cy="7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50800" y="2081160"/>
            <a:ext cx="92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iol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larosc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2205000"/>
            <a:ext cx="1079640" cy="1008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5520" y="5033880"/>
            <a:ext cx="184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pelmaz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objetos y persona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340000" y="5013360"/>
            <a:ext cx="1079640" cy="21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0200" y="2060640"/>
            <a:ext cx="122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ferencia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onos cál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148360" y="2492280"/>
            <a:ext cx="1224000" cy="151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796480" y="5734080"/>
            <a:ext cx="29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ugène Delacro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bertad guiando al pueb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2771640" y="3141720"/>
            <a:ext cx="3024360" cy="2388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713120" y="1844640"/>
            <a:ext cx="221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uertos y barricada en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érmino crean una pirá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es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700360" y="4581000"/>
            <a:ext cx="1727280" cy="863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4581360"/>
            <a:ext cx="1439640" cy="360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276720" y="3789000"/>
            <a:ext cx="1079280" cy="934920"/>
          </a:xfrm>
          <a:prstGeom prst="line">
            <a:avLst/>
          </a:prstGeom>
          <a:ln w="93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27720" y="1773360"/>
            <a:ext cx="236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ovimiento ascens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cia el espectador que inclu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basa encuadre (band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2492280"/>
            <a:ext cx="289080" cy="151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5400" y="2565360"/>
            <a:ext cx="2236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rácter simbólico del pueb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rabajador con espad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rgués con fusil (po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torretrato) y un jo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 pist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todos con expre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gran determinació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067280" y="3933360"/>
            <a:ext cx="433440" cy="647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2800" y="4365720"/>
            <a:ext cx="2258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egoría:Moribundo mira a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bertad (en un predomin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tonos apagados – oc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grises -  desta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os colores rojos y azul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 ropa y el blanco del difu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que está delante (band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rance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195640" y="4581360"/>
            <a:ext cx="1655640" cy="719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96440" y="692280"/>
            <a:ext cx="238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mposición más equilib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o dotada de gran dinam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419280" y="1197000"/>
            <a:ext cx="647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1197000"/>
            <a:ext cx="5029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292720" y="2637000"/>
            <a:ext cx="574560" cy="2087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68040" y="3573360"/>
            <a:ext cx="157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inceladas mu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eltas y ondul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08000" y="3500280"/>
            <a:ext cx="1079640" cy="289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268360" y="5157360"/>
            <a:ext cx="107964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0600" y="4149720"/>
            <a:ext cx="1915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presentación alegó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la libertad o Fra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reminiscencia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s victorias al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ie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4858920" y="3860280"/>
            <a:ext cx="1297080" cy="505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3716280"/>
            <a:ext cx="71928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3640" y="3789360"/>
            <a:ext cx="1728720" cy="36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07680" y="5229360"/>
            <a:ext cx="218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el paisaje se ven 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orres de la catedral de Parí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5508720" y="4149720"/>
            <a:ext cx="792000" cy="1008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96400" y="2637000"/>
            <a:ext cx="186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obre fondo azul y roji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 recortan a contralu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s figu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364000" y="3141720"/>
            <a:ext cx="936720" cy="287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219640" y="3789360"/>
            <a:ext cx="12240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2411280" y="3213000"/>
            <a:ext cx="3816360" cy="2519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136320" y="58053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. William Tu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luvia, vapor y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10960" y="3429000"/>
            <a:ext cx="207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luz penetra en la m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la deshace en imá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leí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219280" y="3860640"/>
            <a:ext cx="1800360" cy="57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162864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91720" y="1916280"/>
            <a:ext cx="242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agonales  oscuras del p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que avanzan hacia el espect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80000" y="2421000"/>
            <a:ext cx="720720" cy="216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2600" y="4653000"/>
            <a:ext cx="227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ª vez que un tren (Revol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dustrial) se convierte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ma del a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5003280" y="4653000"/>
            <a:ext cx="1513080" cy="288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21960" y="5373720"/>
            <a:ext cx="196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onos más oscuros mit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ferior (marrones, gri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835280" y="5300280"/>
            <a:ext cx="1942920" cy="36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5760" y="4529160"/>
            <a:ext cx="184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arca y segundo p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vuelto en va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tmosfé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7640" y="5157720"/>
            <a:ext cx="1152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547640" y="4581000"/>
            <a:ext cx="936720" cy="57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4320" y="3429000"/>
            <a:ext cx="2296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inceladas abocetad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uy libres, con transpa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unto a zonas muy satur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color (empastes, restre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050920" y="3860640"/>
            <a:ext cx="649440" cy="21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99320" y="4149720"/>
            <a:ext cx="193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nsación de mov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292720" y="4292640"/>
            <a:ext cx="1440000" cy="21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00800" y="2133720"/>
            <a:ext cx="345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tmósfera formada por yuxtapos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mezcla de amarillos claros, blancos y algu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zules grisáceos (naturaleza indómi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292720" y="2781360"/>
            <a:ext cx="1008000" cy="93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2340000" y="3068640"/>
            <a:ext cx="3816360" cy="22892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783880" y="5445000"/>
            <a:ext cx="28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. WilliamTu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ibal cruzando los Al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89880" y="1268280"/>
            <a:ext cx="229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sol represen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odeado de un torbell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onde se mezcla la tempest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el alud de ni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492000" y="2133720"/>
            <a:ext cx="71640" cy="1224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91000" y="4724280"/>
            <a:ext cx="240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jército cartaginés y salas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on pequeñas figuras aborb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r inmensidad del pais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651280" y="5013360"/>
            <a:ext cx="93636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49920" y="2060640"/>
            <a:ext cx="307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traste de tonos osc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 zonas cálidas o con destellos blan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635280" y="2492280"/>
            <a:ext cx="1873440" cy="180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292720" y="2492280"/>
            <a:ext cx="216000" cy="1368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2492280"/>
            <a:ext cx="216000" cy="115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2800" y="3017880"/>
            <a:ext cx="2061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itmos giratorio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sman fuer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controlable de naturale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79640" y="3357720"/>
            <a:ext cx="1152360" cy="358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3520" y="2133720"/>
            <a:ext cx="255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parece por primera v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vórtice alrededor del 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irarán los torbellinos tormento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6000" y="2781360"/>
            <a:ext cx="647640" cy="647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2484360" y="3141720"/>
            <a:ext cx="3600360" cy="2523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279600" y="5734080"/>
            <a:ext cx="19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ohn  Co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arro de h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7480" y="3305160"/>
            <a:ext cx="195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fleja un pais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al, no idealiz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casa de Willy L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 chimenea humean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5640" y="3716280"/>
            <a:ext cx="431640" cy="36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22160" y="1720800"/>
            <a:ext cx="248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portancia de los es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tmosféricos y su repercu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obre la luz: paisaje en trans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tormentoso a despej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347640" y="2565360"/>
            <a:ext cx="71640" cy="719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2565360"/>
            <a:ext cx="2016000" cy="93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45880" y="1557360"/>
            <a:ext cx="2255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nchas y líneas blan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 suficiente curvatura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otarlas de tridimensi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distribuidas de for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bérrima en todas dire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obre fondo az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867280" y="2924280"/>
            <a:ext cx="649440" cy="57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3200" y="4457880"/>
            <a:ext cx="166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ransmite bellez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vida cotidiana 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35280" y="4797360"/>
            <a:ext cx="936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80600" y="4221000"/>
            <a:ext cx="2018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finidad de pequeñ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talles del mundo rur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ombre pescand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mpesinos trabajand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era del fo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1480" y="5157720"/>
            <a:ext cx="133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ro conduc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irada hacia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rreta de h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08000" y="5444640"/>
            <a:ext cx="1727280" cy="7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724360" y="4724280"/>
            <a:ext cx="1368720" cy="289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724000" y="4724280"/>
            <a:ext cx="1295640" cy="7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94600" y="3500280"/>
            <a:ext cx="26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uadro de grandes dimen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una escena costumbrista 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651640" y="3716280"/>
            <a:ext cx="792000" cy="72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4080" y="2513160"/>
            <a:ext cx="82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unt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ista a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2852640"/>
            <a:ext cx="1368360" cy="72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43680" y="292428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inta una naturale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oméstica, apa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011640" y="3284640"/>
            <a:ext cx="865080" cy="36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556000" y="2997360"/>
            <a:ext cx="3456000" cy="2738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919960" y="5805360"/>
            <a:ext cx="26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ohn  Co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atedral de Salisb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6040" y="3665520"/>
            <a:ext cx="1685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yor interés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os estados lumín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atmosfér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08000" y="4149720"/>
            <a:ext cx="1295640" cy="21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84400" y="3789360"/>
            <a:ext cx="17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incelada muy suelt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 zonas diluida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tras satur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651640" y="3933360"/>
            <a:ext cx="1008000" cy="7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21120" y="2133720"/>
            <a:ext cx="150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nsación estátic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intempor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500360" y="2637000"/>
            <a:ext cx="431640" cy="2087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64480" y="4746600"/>
            <a:ext cx="170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uminosidad envue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os ob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979640" y="4941720"/>
            <a:ext cx="1079640" cy="21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8:14:17Z</dcterms:created>
  <dc:creator>YO</dc:creator>
  <dc:description/>
  <dc:language>en-US</dc:language>
  <cp:lastModifiedBy>MARIA ISABEL TORRES CAZORLA</cp:lastModifiedBy>
  <dcterms:modified xsi:type="dcterms:W3CDTF">2007-04-30T11:34:59Z</dcterms:modified>
  <cp:revision>32</cp:revision>
  <dc:subject/>
  <dc:title>Diapositiva 1</dc:title>
</cp:coreProperties>
</file>